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107-7A4C-4949-B4CF-4D86743E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3B0-990E-472E-B698-5424B3E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7C7-B91F-42AB-9BD8-57DA785F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FB9-69E5-4205-BC80-CC616CEE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B8B-180E-4740-A71D-59CEBB1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B90-23DF-4AFA-8F99-ED4F0DA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E4D-8AB1-40C2-89FA-FC76B2C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E7E-274E-43CF-A0DF-E92F2BCB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B4A-2B70-4FDA-ABF4-E41170B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57B-655B-4E55-973D-AB6EF03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73F-C075-43D1-B9EC-635DE79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E89-5A55-4863-9693-16F5E09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BF4-3270-4A57-B64C-383B29EB82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242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l file originale, visionato dal tutor,  consta di 15 diapositive e pesa 9 Mb; è stata fatta una riduzione  per poterlo inviare, pertanto sono state inserite solo alcune diapositive a scopo dimost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2997360"/>
            <a:ext cx="606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Bradley Hand ITC"/>
              </a:rPr>
              <a:t>CENERENTO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0640"/>
            <a:ext cx="79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radley Hand ITC"/>
              </a:rPr>
              <a:t>Montare e smontare la sequenza di un racco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638680" cy="70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563868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611280" y="61657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479556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'era una volta, in un paese lontano, un gentiluomo vedovo che viveva in una bella casa con la sua unica figlia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176720" cy="32464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31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 giorno l’uomo si risposò, scegliendo una donna che aveva due figlie giovani. Sfortunatamente, il buon uomo morì poco tempo dopo, ed allora la matrigna mostrò la sua vera nat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542960" cy="461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2171880" cy="473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181764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50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502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5373720"/>
            <a:ext cx="54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fata Smemorina, però, che era la sua madrina decise di aiut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333600" cy="406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6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675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751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251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789000"/>
            <a:ext cx="417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 ballo il figlio del re, ballò solo con Cenerentola, ma a mezzanotte lei fuggì v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941840" cy="259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501336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l mattino seguente, il principe disse al padre che avrebbe sposato solo la ragazza che aveva perso la scarpetta al ballo. Così, cominciarono a cerc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456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225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252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300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254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erentola fu accompagnata al palazzo reale con la carrozza del re. Là, fra grandi feste, sposò il suo principe. E da quel giorno vissero felici e contenti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2638440" cy="2571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1042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468360" y="6237360"/>
            <a:ext cx="358560" cy="43164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98">
                <a:moveTo>
                  <a:pt x="0" y="0"/>
                </a:moveTo>
                <a:lnTo>
                  <a:pt x="21600" y="0"/>
                </a:lnTo>
                <a:lnTo>
                  <a:pt x="21600" y="25998"/>
                </a:lnTo>
                <a:lnTo>
                  <a:pt x="0" y="25998"/>
                </a:lnTo>
                <a:close/>
              </a:path>
              <a:path fill="lightenLess" w="21600" h="25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8">
                <a:moveTo>
                  <a:pt x="21600" y="0"/>
                </a:moveTo>
                <a:lnTo>
                  <a:pt x="21600" y="25998"/>
                </a:lnTo>
                <a:lnTo>
                  <a:pt x="20200" y="24598"/>
                </a:lnTo>
                <a:lnTo>
                  <a:pt x="20200" y="1400"/>
                </a:lnTo>
                <a:close/>
              </a:path>
              <a:path fill="darkenLess" w="21600" h="25998">
                <a:moveTo>
                  <a:pt x="21600" y="25998"/>
                </a:moveTo>
                <a:lnTo>
                  <a:pt x="0" y="25998"/>
                </a:lnTo>
                <a:lnTo>
                  <a:pt x="1400" y="24598"/>
                </a:lnTo>
                <a:lnTo>
                  <a:pt x="20200" y="24598"/>
                </a:lnTo>
                <a:close/>
              </a:path>
              <a:path fill="lighten" w="21600" h="25998">
                <a:moveTo>
                  <a:pt x="0" y="25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8"/>
                </a:lnTo>
                <a:close/>
              </a:path>
              <a:path fill="darken" w="21600" h="25998">
                <a:moveTo>
                  <a:pt x="10800" y="6036"/>
                </a:moveTo>
                <a:lnTo>
                  <a:pt x="13376" y="8647"/>
                </a:ln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lnTo>
                  <a:pt x="17763" y="12999"/>
                </a:lnTo>
                <a:lnTo>
                  <a:pt x="16109" y="12999"/>
                </a:lnTo>
                <a:lnTo>
                  <a:pt x="16109" y="20188"/>
                </a:lnTo>
                <a:lnTo>
                  <a:pt x="5491" y="20188"/>
                </a:lnTo>
                <a:lnTo>
                  <a:pt x="5491" y="12999"/>
                </a:lnTo>
                <a:lnTo>
                  <a:pt x="3837" y="12999"/>
                </a:lnTo>
                <a:close/>
              </a:path>
              <a:path fill="darkenLess" w="21600" h="25998">
                <a:moveTo>
                  <a:pt x="13376" y="8647"/>
                </a:moveTo>
                <a:lnTo>
                  <a:pt x="13376" y="6906"/>
                </a:lnTo>
                <a:lnTo>
                  <a:pt x="15152" y="6906"/>
                </a:lnTo>
                <a:lnTo>
                  <a:pt x="15152" y="10423"/>
                </a:lnTo>
                <a:close/>
              </a:path>
              <a:path fill="darkenLess" w="21600" h="25998">
                <a:moveTo>
                  <a:pt x="9877" y="16498"/>
                </a:moveTo>
                <a:lnTo>
                  <a:pt x="11723" y="16498"/>
                </a:lnTo>
                <a:lnTo>
                  <a:pt x="11723" y="20188"/>
                </a:lnTo>
                <a:lnTo>
                  <a:pt x="16109" y="20188"/>
                </a:lnTo>
                <a:lnTo>
                  <a:pt x="16109" y="12999"/>
                </a:lnTo>
                <a:lnTo>
                  <a:pt x="5491" y="12999"/>
                </a:lnTo>
                <a:lnTo>
                  <a:pt x="5491" y="20188"/>
                </a:lnTo>
                <a:lnTo>
                  <a:pt x="9877" y="2018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7956720" y="6308640"/>
            <a:ext cx="71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Es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375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9:44:39Z</dcterms:created>
  <dc:creator>giusy</dc:creator>
  <dc:description/>
  <dc:language>en-US</dc:language>
  <cp:lastModifiedBy>DISALVO</cp:lastModifiedBy>
  <dcterms:modified xsi:type="dcterms:W3CDTF">2006-10-28T21:07:46Z</dcterms:modified>
  <cp:revision>121</cp:revision>
  <dc:subject/>
  <dc:title>Diapositiva 1</dc:title>
</cp:coreProperties>
</file>