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DD6-36A6-4312-A2E1-AD25D280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CAF-9CC8-435B-945E-E1D32E7E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19E-9F0A-43D4-9075-3B7D6A42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E8D-2324-4043-8FE0-BC5BD6E5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AF2-C769-4465-9CE5-54FBDB1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57E-7BEE-4CFD-A35D-6563F80E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FA6-85C2-4C10-B769-9D34D2E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228-95A3-4492-AFB8-16BEABE3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B4B-6268-4CF4-876B-AC1C15FF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4CC-97B8-47D0-82FD-72811FE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AA6-BABC-454A-B8E8-7D52406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EC0-7721-48A8-A314-1019D36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4898-F684-4BD8-B251-8647BD5A042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42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l file originale, visionato dal tutor,  consta di 15 diapositive e pesa 9 Mb; è stata fatta una riduzione  per poterlo inviare, pertanto sono state inserite solo alcune diapositive a scopo dimost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2997360"/>
            <a:ext cx="60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radley Hand ITC"/>
              </a:rPr>
              <a:t>CENERENTO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79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radley Hand ITC"/>
              </a:rPr>
              <a:t>Montare e smontare la sequenza di un racco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6386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563868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11280" y="61657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9556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'era una volta, in un paese lontano, un gentiluomo vedovo che viveva in una bella casa con la sua unica figlia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176720" cy="32464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 giorno l’uomo si risposò, scegliendo una donna che aveva due figlie giovani. Sfortunatamente, il buon uomo morì poco tempo dopo, ed allora la matrigna mostrò la sua vera nat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542960" cy="461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171880" cy="473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181764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5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2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5373720"/>
            <a:ext cx="54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fata Smemorina, però, che era la sua madrina decise di aiut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33600" cy="406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675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51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251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789000"/>
            <a:ext cx="417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 ballo il figlio del re, ballò solo con Cenerentola, ma a mezzanotte lei fuggì 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184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mattino seguente, il principe disse al padre che avrebbe sposato solo la ragazza che aveva perso la scarpetta al ballo. Così, cominciarono a cerc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25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252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300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254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erentola fu accompagnata al palazzo reale con la carrozza del re. Là, fra grandi feste, sposò il suo principe. E da quel giorno vissero felici e contenti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638440" cy="2571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042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468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956720" y="6308640"/>
            <a:ext cx="71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75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44:39Z</dcterms:created>
  <dc:creator>giusy</dc:creator>
  <dc:description/>
  <dc:language>en-US</dc:language>
  <cp:lastModifiedBy>DISALVO</cp:lastModifiedBy>
  <dcterms:modified xsi:type="dcterms:W3CDTF">2006-10-28T21:07:46Z</dcterms:modified>
  <cp:revision>121</cp:revision>
  <dc:subject/>
  <dc:title>Diapositiva 1</dc:title>
</cp:coreProperties>
</file>