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B20-6DAC-4E37-A881-02BE60BA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CC92-38F2-4FD7-AD40-274BC853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3F2C-FEC2-48E8-87D2-0138A607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3AFD-4279-4011-ABF7-2CE54870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C902-4C69-4BC9-ACE1-EFEEB4EE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0159-3A23-4DFA-953C-EF91C65C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2BF5-C6B7-41D7-BD84-55EF8721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B812-494D-4CC0-9DD2-B0029EF1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E13-B3D5-487C-97B8-21A27C58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7FAC-1C1C-4DF7-9ACD-B518AE0C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1B46-6282-451D-8BBE-12D1F229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2007-6B58-4606-8507-B77793B2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B59F-14A1-44BD-8A1D-48D87C3E19F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2421000"/>
            <a:ext cx="74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Il file originale, visionato dal tutor,  consta di 15 diapositive e pesa 9 Mb; è stata fatta una riduzione  per poterlo inviare, pertanto sono state inserite solo alcune diapositive a scopo dimostr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459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19280" y="2997360"/>
            <a:ext cx="606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Bradley Hand ITC"/>
              </a:rPr>
              <a:t>CENERENTO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20640"/>
            <a:ext cx="797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Bradley Hand ITC"/>
              </a:rPr>
              <a:t>Montare e smontare la sequenza di un racco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5638680" cy="704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692360" y="4437000"/>
            <a:ext cx="5638680" cy="704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459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endshow"/>
          </p:cNvPr>
          <p:cNvSpPr/>
          <p:nvPr/>
        </p:nvSpPr>
        <p:spPr>
          <a:xfrm>
            <a:off x="611280" y="6165720"/>
            <a:ext cx="86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Bradley Hand ITC"/>
              </a:rPr>
              <a:t>Es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4795560"/>
            <a:ext cx="721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'era una volta, in un paese lontano, un gentiluomo vedovo che viveva in una bella casa con la sua unica figlia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95640" y="907920"/>
            <a:ext cx="4176720" cy="324648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459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67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651280" y="765000"/>
            <a:ext cx="331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 giorno l’uomo si risposò, scegliendo una donna che aveva due figlie giovani. Sfortunatamente, il buon uomo morì poco tempo dopo, ed allora la matrigna mostrò la sua vera natu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1542960" cy="461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459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46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67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39640" y="907920"/>
            <a:ext cx="2171880" cy="473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708360" y="1341360"/>
            <a:ext cx="1817640" cy="4492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650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502"/>
                            </p:stCondLst>
                            <p:childTnLst>
                              <p:par>
                                <p:cTn id="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79640" y="5373720"/>
            <a:ext cx="547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 fata Smemorina, però, che era la sua madrina decise di aiutar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43280" y="692280"/>
            <a:ext cx="3333600" cy="4066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459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6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675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751"/>
                            </p:stCondLst>
                            <p:childTnLst>
                              <p:par>
                                <p:cTn id="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251"/>
                            </p:stCondLst>
                            <p:childTnLst>
                              <p:par>
                                <p:cTn id="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3789000"/>
            <a:ext cx="4176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 ballo il figlio del re, ballò solo con Cenerentola, ma a mezzanotte lei fuggì v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941840" cy="2592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148360" y="476280"/>
            <a:ext cx="2104920" cy="2160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5640" y="5013360"/>
            <a:ext cx="410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l mattino seguente, il principe disse al padre che avrebbe sposato solo la ragazza che aveva perso la scarpetta al ballo. Così, cominciarono a cercar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292720" y="3429000"/>
            <a:ext cx="3456000" cy="253044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8459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2509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2252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252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3002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254"/>
                            </p:stCondLst>
                            <p:childTnLst>
                              <p:par>
                                <p:cTn id="1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436536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enerentola fu accompagnata al palazzo reale con la carrozza del re. Là, fra grandi feste, sposò il suo principe. E da quel giorno vissero felici e contenti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03640" y="981000"/>
            <a:ext cx="2638440" cy="257184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10429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468360" y="6237360"/>
            <a:ext cx="358560" cy="43164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998">
                <a:moveTo>
                  <a:pt x="0" y="0"/>
                </a:moveTo>
                <a:lnTo>
                  <a:pt x="21600" y="0"/>
                </a:lnTo>
                <a:lnTo>
                  <a:pt x="21600" y="25998"/>
                </a:lnTo>
                <a:lnTo>
                  <a:pt x="0" y="25998"/>
                </a:lnTo>
                <a:close/>
              </a:path>
              <a:path fill="lightenLess" w="21600" h="25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8">
                <a:moveTo>
                  <a:pt x="21600" y="0"/>
                </a:moveTo>
                <a:lnTo>
                  <a:pt x="21600" y="25998"/>
                </a:lnTo>
                <a:lnTo>
                  <a:pt x="20200" y="24598"/>
                </a:lnTo>
                <a:lnTo>
                  <a:pt x="20200" y="1400"/>
                </a:lnTo>
                <a:close/>
              </a:path>
              <a:path fill="darkenLess" w="21600" h="25998">
                <a:moveTo>
                  <a:pt x="21600" y="25998"/>
                </a:moveTo>
                <a:lnTo>
                  <a:pt x="0" y="25998"/>
                </a:lnTo>
                <a:lnTo>
                  <a:pt x="1400" y="24598"/>
                </a:lnTo>
                <a:lnTo>
                  <a:pt x="20200" y="24598"/>
                </a:lnTo>
                <a:close/>
              </a:path>
              <a:path fill="lighten" w="21600" h="25998">
                <a:moveTo>
                  <a:pt x="0" y="25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8"/>
                </a:lnTo>
                <a:close/>
              </a:path>
              <a:path fill="darken" w="21600" h="25998">
                <a:moveTo>
                  <a:pt x="10800" y="6036"/>
                </a:moveTo>
                <a:lnTo>
                  <a:pt x="13376" y="8647"/>
                </a:lnTo>
                <a:lnTo>
                  <a:pt x="13376" y="6906"/>
                </a:lnTo>
                <a:lnTo>
                  <a:pt x="15152" y="6906"/>
                </a:lnTo>
                <a:lnTo>
                  <a:pt x="15152" y="10423"/>
                </a:lnTo>
                <a:lnTo>
                  <a:pt x="17763" y="12999"/>
                </a:lnTo>
                <a:lnTo>
                  <a:pt x="16109" y="12999"/>
                </a:lnTo>
                <a:lnTo>
                  <a:pt x="16109" y="20188"/>
                </a:lnTo>
                <a:lnTo>
                  <a:pt x="5491" y="20188"/>
                </a:lnTo>
                <a:lnTo>
                  <a:pt x="5491" y="12999"/>
                </a:lnTo>
                <a:lnTo>
                  <a:pt x="3837" y="12999"/>
                </a:lnTo>
                <a:close/>
              </a:path>
              <a:path fill="darkenLess" w="21600" h="25998">
                <a:moveTo>
                  <a:pt x="13376" y="8647"/>
                </a:moveTo>
                <a:lnTo>
                  <a:pt x="13376" y="6906"/>
                </a:lnTo>
                <a:lnTo>
                  <a:pt x="15152" y="6906"/>
                </a:lnTo>
                <a:lnTo>
                  <a:pt x="15152" y="10423"/>
                </a:lnTo>
                <a:close/>
              </a:path>
              <a:path fill="darkenLess" w="21600" h="25998">
                <a:moveTo>
                  <a:pt x="9877" y="16498"/>
                </a:moveTo>
                <a:lnTo>
                  <a:pt x="11723" y="16498"/>
                </a:lnTo>
                <a:lnTo>
                  <a:pt x="11723" y="20188"/>
                </a:lnTo>
                <a:lnTo>
                  <a:pt x="16109" y="20188"/>
                </a:lnTo>
                <a:lnTo>
                  <a:pt x="16109" y="12999"/>
                </a:lnTo>
                <a:lnTo>
                  <a:pt x="5491" y="12999"/>
                </a:lnTo>
                <a:lnTo>
                  <a:pt x="5491" y="20188"/>
                </a:lnTo>
                <a:lnTo>
                  <a:pt x="9877" y="20188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" action="ppaction://hlinkshowjump?jump=endshow"/>
          </p:cNvPr>
          <p:cNvSpPr/>
          <p:nvPr/>
        </p:nvSpPr>
        <p:spPr>
          <a:xfrm>
            <a:off x="7956720" y="6308640"/>
            <a:ext cx="71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Es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3752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9:44:39Z</dcterms:created>
  <dc:creator>giusy</dc:creator>
  <dc:description/>
  <dc:language>en-US</dc:language>
  <cp:lastModifiedBy>DISALVO</cp:lastModifiedBy>
  <dcterms:modified xsi:type="dcterms:W3CDTF">2006-10-28T21:07:46Z</dcterms:modified>
  <cp:revision>121</cp:revision>
  <dc:subject/>
  <dc:title>Diapositiva 1</dc:title>
</cp:coreProperties>
</file>