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media/image4.png" ContentType="image/png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media/image11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F99E-7FB2-4BE4-8C4C-13DB06281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247C-A1CC-4BF2-AC9C-21B43E58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D18A-5C1A-43B6-800A-FCAC39598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B9DB-25CB-4B6E-A928-5ADEABC24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6204-43C6-4348-A2EF-A7797AE1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59C0-6FC4-4CA9-91F7-AD78F5CA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D2A2-50EE-445B-B5C5-BA2DFC8F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E93C-234E-4403-96CE-5E157A17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6EA4-87D1-452E-ABB8-7F79EF6E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3589-C786-4461-8B83-A12E41B6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47BF-3951-444D-828C-7DE75503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5FA9-66C1-4180-BED1-ED054A70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787B-7EB1-4400-B59E-F6739F920BF7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4.png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jpe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2421000"/>
            <a:ext cx="748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Arial"/>
              </a:rPr>
              <a:t>Il file originale, visionato dal tutor,  consta di 15 diapositive e pesa 9 Mb; è stata fatta una riduzione  per poterlo inviare, pertanto sono state inserite solo alcune diapositive a scopo dimostra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459640" y="6237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3839" y="3794"/>
                </a:moveTo>
                <a:lnTo>
                  <a:pt x="17851" y="10800"/>
                </a:lnTo>
                <a:lnTo>
                  <a:pt x="3839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19280" y="2997360"/>
            <a:ext cx="606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Bradley Hand ITC"/>
              </a:rPr>
              <a:t>CENERENTO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620640"/>
            <a:ext cx="7977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Bradley Hand ITC"/>
              </a:rPr>
              <a:t>Montare e smontare la sequenza di un racco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619280" y="2133720"/>
            <a:ext cx="5638680" cy="704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692360" y="4437000"/>
            <a:ext cx="5638680" cy="704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459640" y="6237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3839" y="3794"/>
                </a:moveTo>
                <a:lnTo>
                  <a:pt x="17851" y="10800"/>
                </a:lnTo>
                <a:lnTo>
                  <a:pt x="3839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endshow"/>
          </p:cNvPr>
          <p:cNvSpPr/>
          <p:nvPr/>
        </p:nvSpPr>
        <p:spPr>
          <a:xfrm>
            <a:off x="611280" y="6165720"/>
            <a:ext cx="865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Bradley Hand ITC"/>
              </a:rPr>
              <a:t>Esc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42920" y="4795560"/>
            <a:ext cx="721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'era una volta, in un paese lontano, un gentiluomo vedovo che viveva in una bella casa con la sua unica figlia.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95640" y="907920"/>
            <a:ext cx="4176720" cy="3246480"/>
          </a:xfrm>
          <a:prstGeom prst="rect">
            <a:avLst/>
          </a:prstGeom>
          <a:ln w="0">
            <a:noFill/>
          </a:ln>
        </p:spPr>
      </p:pic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8459640" y="6237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3839" y="3794"/>
                </a:moveTo>
                <a:lnTo>
                  <a:pt x="17851" y="10800"/>
                </a:lnTo>
                <a:lnTo>
                  <a:pt x="3839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667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651280" y="765000"/>
            <a:ext cx="3313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Un giorno l’uomo si risposò, scegliendo una donna che aveva due figlie giovani. Sfortunatamente, il buon uomo morì poco tempo dopo, ed allora la matrigna mostrò la sua vera natur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84360" y="836640"/>
            <a:ext cx="1542960" cy="461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459640" y="6237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3839" y="3794"/>
                </a:moveTo>
                <a:lnTo>
                  <a:pt x="17851" y="10800"/>
                </a:lnTo>
                <a:lnTo>
                  <a:pt x="3839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previousslide"/>
          </p:cNvPr>
          <p:cNvSpPr/>
          <p:nvPr/>
        </p:nvSpPr>
        <p:spPr>
          <a:xfrm>
            <a:off x="4683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66764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39640" y="907920"/>
            <a:ext cx="2171880" cy="4734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708360" y="1341360"/>
            <a:ext cx="1817640" cy="4492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6502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6502"/>
                            </p:stCondLst>
                            <p:childTnLst>
                              <p:par>
                                <p:cTn id="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979640" y="5373720"/>
            <a:ext cx="547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a fata Smemorina, però, che era la sua madrina decise di aiutar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843280" y="692280"/>
            <a:ext cx="3333600" cy="4066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459640" y="6237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3839" y="3794"/>
                </a:moveTo>
                <a:lnTo>
                  <a:pt x="17851" y="10800"/>
                </a:lnTo>
                <a:lnTo>
                  <a:pt x="3839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" action="ppaction://hlinkshowjump?jump=previousslide"/>
          </p:cNvPr>
          <p:cNvSpPr/>
          <p:nvPr/>
        </p:nvSpPr>
        <p:spPr>
          <a:xfrm>
            <a:off x="4683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675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751"/>
                            </p:stCondLst>
                            <p:childTnLst>
                              <p:par>
                                <p:cTn id="8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7251"/>
                            </p:stCondLst>
                            <p:childTnLst>
                              <p:par>
                                <p:cTn id="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50920" y="3789000"/>
            <a:ext cx="4176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 ballo il figlio del re, ballò solo con Cenerentola, ma a mezzanotte lei fuggì v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1941840" cy="2592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148360" y="476280"/>
            <a:ext cx="2104920" cy="2160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55640" y="5013360"/>
            <a:ext cx="4105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l mattino seguente, il principe disse al padre che avrebbe sposato solo la ragazza che aveva perso la scarpetta al ballo. Così, cominciarono a cercar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292720" y="3429000"/>
            <a:ext cx="3456000" cy="2530440"/>
          </a:xfrm>
          <a:prstGeom prst="rect">
            <a:avLst/>
          </a:prstGeom>
          <a:ln w="0">
            <a:noFill/>
          </a:ln>
        </p:spPr>
      </p:pic>
      <p:sp>
        <p:nvSpPr>
          <p:cNvPr id="72" name="">
            <a:hlinkClick r:id="" action="ppaction://hlinkshowjump?jump=nextslide"/>
          </p:cNvPr>
          <p:cNvSpPr/>
          <p:nvPr/>
        </p:nvSpPr>
        <p:spPr>
          <a:xfrm>
            <a:off x="8459640" y="6237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3839" y="3794"/>
                </a:moveTo>
                <a:lnTo>
                  <a:pt x="17851" y="10800"/>
                </a:lnTo>
                <a:lnTo>
                  <a:pt x="3839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previousslide"/>
          </p:cNvPr>
          <p:cNvSpPr/>
          <p:nvPr/>
        </p:nvSpPr>
        <p:spPr>
          <a:xfrm>
            <a:off x="25092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12252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2252"/>
                            </p:stCondLst>
                            <p:childTnLst>
                              <p:par>
                                <p:cTn id="1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3002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254"/>
                            </p:stCondLst>
                            <p:childTnLst>
                              <p:par>
                                <p:cTn id="1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68360" y="436536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enerentola fu accompagnata al palazzo reale con la carrozza del re. Là, fra grandi feste, sposò il suo principe. E da quel giorno vissero felici e contenti.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203640" y="981000"/>
            <a:ext cx="2638440" cy="257184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" action="ppaction://hlinkshowjump?jump=previousslide"/>
          </p:cNvPr>
          <p:cNvSpPr/>
          <p:nvPr/>
        </p:nvSpPr>
        <p:spPr>
          <a:xfrm>
            <a:off x="104292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firstslide"/>
          </p:cNvPr>
          <p:cNvSpPr/>
          <p:nvPr/>
        </p:nvSpPr>
        <p:spPr>
          <a:xfrm>
            <a:off x="468360" y="6237360"/>
            <a:ext cx="358560" cy="43164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998">
                <a:moveTo>
                  <a:pt x="0" y="0"/>
                </a:moveTo>
                <a:lnTo>
                  <a:pt x="21600" y="0"/>
                </a:lnTo>
                <a:lnTo>
                  <a:pt x="21600" y="25998"/>
                </a:lnTo>
                <a:lnTo>
                  <a:pt x="0" y="25998"/>
                </a:lnTo>
                <a:close/>
              </a:path>
              <a:path fill="lightenLess" w="21600" h="259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98">
                <a:moveTo>
                  <a:pt x="21600" y="0"/>
                </a:moveTo>
                <a:lnTo>
                  <a:pt x="21600" y="25998"/>
                </a:lnTo>
                <a:lnTo>
                  <a:pt x="20200" y="24598"/>
                </a:lnTo>
                <a:lnTo>
                  <a:pt x="20200" y="1400"/>
                </a:lnTo>
                <a:close/>
              </a:path>
              <a:path fill="darkenLess" w="21600" h="25998">
                <a:moveTo>
                  <a:pt x="21600" y="25998"/>
                </a:moveTo>
                <a:lnTo>
                  <a:pt x="0" y="25998"/>
                </a:lnTo>
                <a:lnTo>
                  <a:pt x="1400" y="24598"/>
                </a:lnTo>
                <a:lnTo>
                  <a:pt x="20200" y="24598"/>
                </a:lnTo>
                <a:close/>
              </a:path>
              <a:path fill="lighten" w="21600" h="25998">
                <a:moveTo>
                  <a:pt x="0" y="259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98"/>
                </a:lnTo>
                <a:close/>
              </a:path>
              <a:path fill="darken" w="21600" h="25998">
                <a:moveTo>
                  <a:pt x="10800" y="6036"/>
                </a:moveTo>
                <a:lnTo>
                  <a:pt x="13376" y="8647"/>
                </a:lnTo>
                <a:lnTo>
                  <a:pt x="13376" y="6906"/>
                </a:lnTo>
                <a:lnTo>
                  <a:pt x="15152" y="6906"/>
                </a:lnTo>
                <a:lnTo>
                  <a:pt x="15152" y="10423"/>
                </a:lnTo>
                <a:lnTo>
                  <a:pt x="17763" y="12999"/>
                </a:lnTo>
                <a:lnTo>
                  <a:pt x="16109" y="12999"/>
                </a:lnTo>
                <a:lnTo>
                  <a:pt x="16109" y="20188"/>
                </a:lnTo>
                <a:lnTo>
                  <a:pt x="5491" y="20188"/>
                </a:lnTo>
                <a:lnTo>
                  <a:pt x="5491" y="12999"/>
                </a:lnTo>
                <a:lnTo>
                  <a:pt x="3837" y="12999"/>
                </a:lnTo>
                <a:close/>
              </a:path>
              <a:path fill="darkenLess" w="21600" h="25998">
                <a:moveTo>
                  <a:pt x="13376" y="8647"/>
                </a:moveTo>
                <a:lnTo>
                  <a:pt x="13376" y="6906"/>
                </a:lnTo>
                <a:lnTo>
                  <a:pt x="15152" y="6906"/>
                </a:lnTo>
                <a:lnTo>
                  <a:pt x="15152" y="10423"/>
                </a:lnTo>
                <a:close/>
              </a:path>
              <a:path fill="darkenLess" w="21600" h="25998">
                <a:moveTo>
                  <a:pt x="9877" y="16498"/>
                </a:moveTo>
                <a:lnTo>
                  <a:pt x="11723" y="16498"/>
                </a:lnTo>
                <a:lnTo>
                  <a:pt x="11723" y="20188"/>
                </a:lnTo>
                <a:lnTo>
                  <a:pt x="16109" y="20188"/>
                </a:lnTo>
                <a:lnTo>
                  <a:pt x="16109" y="12999"/>
                </a:lnTo>
                <a:lnTo>
                  <a:pt x="5491" y="12999"/>
                </a:lnTo>
                <a:lnTo>
                  <a:pt x="5491" y="20188"/>
                </a:lnTo>
                <a:lnTo>
                  <a:pt x="9877" y="20188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1" name="">
            <a:hlinkClick r:id="" action="ppaction://hlinkshowjump?jump=endshow"/>
          </p:cNvPr>
          <p:cNvSpPr/>
          <p:nvPr/>
        </p:nvSpPr>
        <p:spPr>
          <a:xfrm>
            <a:off x="7956720" y="6308640"/>
            <a:ext cx="718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Esc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3752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8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9:44:39Z</dcterms:created>
  <dc:creator>giusy</dc:creator>
  <dc:description/>
  <dc:language>en-US</dc:language>
  <cp:lastModifiedBy>DISALVO</cp:lastModifiedBy>
  <dcterms:modified xsi:type="dcterms:W3CDTF">2006-10-28T21:07:46Z</dcterms:modified>
  <cp:revision>121</cp:revision>
  <dc:subject/>
  <dc:title>Diapositiva 1</dc:title>
</cp:coreProperties>
</file>