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864-558E-4BF8-BDA8-E6B090B0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1D1-88A8-40B1-8C30-74B7785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CC3-19ED-40A3-A5E7-20A9F72C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23E-0FF2-43A9-BCEA-59377224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38E-E9B4-4B0A-9D4C-93D725FD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D5F1-130B-4EE6-BE9B-74EBD719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7DF5-2E33-4D3C-A48C-45E56D81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A79-7167-44E0-87D0-A774504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D3AB-7B2D-40A8-8E3F-4AAC563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3A4-D359-4533-9E6F-D78AE84E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C5E5-F198-42CD-A615-D73425B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A71-7B6A-4368-BEC6-49DA682F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A3D-2F2D-4701-A205-3B281E0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D79-5CAD-4C93-8A4F-FA81364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45B8-66A9-487C-8CC2-ED500BB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6EDA-F091-41BA-AA97-EC1A2C76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1AA-58CD-4DEF-9D03-FF89CA9E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EF6-A3B8-45C5-AD0C-06F8764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3AC-56C6-46F7-8FBD-721BB253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A34-83CC-4EDA-BDE8-C8CC8DB8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0B7-4CAA-4B07-ABCE-8B729D8F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0C2-0D3A-4759-A2B0-5D36C56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E58-EBDF-421B-A9C8-6F6AA1E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BE2-1583-4AAF-89EC-7D153F9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A18B-9F89-48BE-A0C1-1D192FD388B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73D-786F-4A0D-8AA6-FF7745281AD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Arial Black"/>
              </a:rPr>
              <a:t>3° Circolo Bagheria</a:t>
            </a:r>
            <a:br>
              <a:rPr sz="28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Gli Alunni Della classe 3 D </a:t>
            </a:r>
            <a:br>
              <a:rPr sz="2400"/>
            </a:br>
            <a:r>
              <a:rPr b="1" lang="it-IT" sz="2400" spc="-1" strike="noStrike">
                <a:solidFill>
                  <a:srgbClr val="cc6600"/>
                </a:solidFill>
                <a:latin typeface="Arial Black"/>
              </a:rPr>
              <a:t>introduce</a:t>
            </a: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420640"/>
            <a:ext cx="6782040" cy="2808360"/>
          </a:xfrm>
          <a:prstGeom prst="rect">
            <a:avLst/>
          </a:prstGeom>
          <a:noFill/>
          <a:ln w="57240">
            <a:solidFill>
              <a:srgbClr val="cc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Irish legend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cc00"/>
                </a:solidFill>
                <a:latin typeface="Arial"/>
              </a:rPr>
              <a:t>ST.PATRI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KEPT HIS PROMISE. WHEN HE WAS A BISHOP BACK TO IRELAND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39080" cy="4697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HE BANISHED ALL SNAKES FROM IRELAND AND DROVE THEM INTO THE SEA. HE BANISHED THE STRANGE GODS AND CUSTOMS OF THE PEOPLE</a:t>
            </a:r>
            <a:r>
              <a:rPr b="1" lang="en-GB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542960"/>
            <a:ext cx="7656840" cy="531504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PICKED UP A  SHAMROCK TO SHOW THEM HOW THREE GODS COULD BE IN ONE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50133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PEOPLE OF IRELAND BECAME CHRISTIANS AND EVERY YEAR ON 17TH MARCH PEOPLE ALL OVER THE WORLD CELEBRATE SAINT  PATRICK’S  DAY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190760" cy="470844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32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6600"/>
                </a:solidFill>
                <a:latin typeface="Arial Black"/>
              </a:rPr>
              <a:t>credit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 Keating, Irish legends, St Patrick   Ed. Tarantula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ces recording : pupils of class 3°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° Circolo Didattico Bagheria –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A YOUNG BOY. HE LIVED IN A LAND ACROSS THE SEA. ONE DAY PATRICK HEARD  A VOICE CALLING FOR SOMEONE TO COME IN IRELAND AND SHOW THE PEOPLE A BETTER WAY OF LIF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896080" cy="424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 </a:t>
            </a:r>
            <a:r>
              <a:rPr b="1" lang="en-GB" sz="1600" spc="-1" strike="noStrike">
                <a:solidFill>
                  <a:srgbClr val="cc6600"/>
                </a:solidFill>
                <a:latin typeface="Arial Black"/>
              </a:rPr>
              <a:t>AT THAT TIME THE PEOPLE OF IRELAND WAS ALL PAGANS. THEY COULD NOT READ AND WRITE.</a:t>
            </a:r>
            <a:endParaRPr b="1" lang="en-US" sz="16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91320" cy="4830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WHILE PATRICK WAS LISTENING TO THE VOICE, A LONG BOAT LANDED AT THE SEASHORE. CRUEL AND SAVAGE MEN JUMPED FROM THE BOAT AND THEY CAPTURED PATRI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485040" cy="46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SOLD AS A SLAVE HE WAS MINDING SHEEPS AND PIGS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53200" cy="44244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WAS COLD AND HUNGRY. HE WAS AFRAID OF SNAKES THAT CRAWELED ALL OVER MOUNT SLEMISH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851120"/>
            <a:ext cx="6408720" cy="5006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ONE NIGHT PATRICK WENT TO THE SEASHORE AND SAW A BOAT.HE CLIMBED ON BOARD THE BOAT AND HIDE UNDER A SACK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116840" cy="483840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THE BOAT LANDED NEAR PATRICK’S HOME . HIS MOTHER AND HIS FATHER DILIGHTED TO SEE PATRICK SAFELY HOME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812960"/>
            <a:ext cx="6821280" cy="504504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 Black"/>
              </a:rPr>
              <a:t>PATRICK HAD PROMISED GOD THAT IF HE ESCAPED FROM IRELAND HE WOULD BECOME A BISHOP.</a:t>
            </a:r>
            <a:endParaRPr b="1" lang="en-US" sz="2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24920" cy="4648320"/>
          </a:xfrm>
          <a:prstGeom prst="rect">
            <a:avLst/>
          </a:prstGeom>
          <a:ln w="76320">
            <a:solidFill>
              <a:srgbClr val="f05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20:42:16Z</dcterms:created>
  <dc:creator>Loredana</dc:creator>
  <dc:description/>
  <dc:language>en-US</dc:language>
  <cp:lastModifiedBy>Loredana</cp:lastModifiedBy>
  <dcterms:modified xsi:type="dcterms:W3CDTF">2007-03-12T22:22:42Z</dcterms:modified>
  <cp:revision>16</cp:revision>
  <dc:subject/>
  <dc:title>Diapositiva 1</dc:title>
</cp:coreProperties>
</file>