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BB2-C9F1-4366-9942-5BF4B374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691-B1ED-4520-A7D9-CAFEB7D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238-06AC-4386-86FE-670EB3C6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246-89D0-4F61-AC29-5411C2AF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236-EA74-4DE6-8E7B-32EEB585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BA7-C194-4E39-A82F-F654D149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AAF-0FED-48B9-BD3A-2E383DD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80A8-DC46-4009-93C3-C305DEE2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8D70-1CD7-49D8-A7A8-C07FCF4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B358-F154-43FE-ABDF-41E2B0F3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FE1-10F5-423F-B7DA-3E0A28B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832-646B-49F5-B331-38A2D5C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55BA-5E6F-4C70-9FFE-0F3849D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AF4D-B15F-4F1F-9535-8A745AE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9992-B909-4636-B698-03FF7257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82B1-B83D-475C-9C73-993A3A0F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E87C-17B3-45A0-8738-2826511D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756-CA36-42B3-96FF-FCD5DFD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7CF-6868-4A60-B822-2CCBBBF2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ACE-18D9-4207-B435-3DE4F941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429-A93B-4840-9BBB-05F3D668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27A-7ACB-4CDC-9CCD-D2EBB74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1DC-02C7-4CF0-8BBF-608D16A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F3E-3745-4D76-9810-6892C01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CD6-3C88-483C-9147-00C6853CA14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12F-4C75-4544-997E-694742A1C54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Arial Black"/>
              </a:rPr>
              <a:t>3° Circolo Bagheria</a:t>
            </a:r>
            <a:br>
              <a:rPr sz="28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Gli Alunni Della classe 3 D </a:t>
            </a:r>
            <a:br>
              <a:rPr sz="24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introduce</a:t>
            </a: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420640"/>
            <a:ext cx="6782040" cy="2808360"/>
          </a:xfrm>
          <a:prstGeom prst="rect">
            <a:avLst/>
          </a:prstGeom>
          <a:noFill/>
          <a:ln w="57240">
            <a:solidFill>
              <a:srgbClr val="cc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Irish legend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ST.PATRI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KEPT HIS PROMISE. WHEN HE WAS A BISHOP BACK TO IRELAND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39080" cy="4697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HE BANISHED ALL SNAKES FROM IRELAND AND DROVE THEM INTO THE SEA. HE BANISHED THE STRANGE GODS AND CUSTOMS OF THE PEOPLE</a:t>
            </a:r>
            <a:r>
              <a:rPr b="1" lang="en-GB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542960"/>
            <a:ext cx="7656840" cy="531504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PICKED UP A  SHAMROCK TO SHOW THEM HOW THREE GODS COULD BE IN ONE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5013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PEOPLE OF IRELAND BECAME CHRISTIANS AND EVERY YEAR ON 17TH MARCH PEOPLE ALL OVER THE WORLD CELEBRATE SAINT  PATRICK’S  DAY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190760" cy="47084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32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6600"/>
                </a:solidFill>
                <a:latin typeface="Arial Black"/>
              </a:rPr>
              <a:t>credit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 Keating, Irish legends, St Patrick   Ed. Tarantula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ces recording : pupils of class 3°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° Circolo Didattico Bagheria –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A YOUNG BOY. HE LIVED IN A LAND ACROSS THE SEA. ONE DAY PATRICK HEARD  A VOICE CALLING FOR SOMEONE TO COME IN IRELAND AND SHOW THE PEOPLE A BETTER WAY OF LIF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896080" cy="424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AT THAT TIME THE PEOPLE OF IRELAND WAS ALL PAGANS. THEY COULD NOT READ AND WRITE.</a:t>
            </a:r>
            <a:endParaRPr b="1" lang="en-US" sz="16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91320" cy="4830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WHILE PATRICK WAS LISTENING TO THE VOICE, A LONG BOAT LANDED AT THE SEASHORE. CRUEL AND SAVAGE MEN JUMPED FROM THE BOAT AND THEY CAPTURED PATRI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5040" cy="46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SOLD AS A SLAVE HE WAS MINDING SHEEPS AND PIGS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53200" cy="44244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COLD AND HUNGRY. HE WAS AFRAID OF SNAKES THAT CRAWELED ALL OVER MOUNT SLEMISH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6408720" cy="5006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ONE NIGHT PATRICK WENT TO THE SEASHORE AND SAW A BOAT.HE CLIMBED ON BOARD THE BOAT AND HIDE UNDER A SA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16840" cy="483840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BOAT LANDED NEAR PATRICK’S HOME . HIS MOTHER AND HIS FATHER DILIGHTED TO SEE PATRICK SAFELY HOM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812960"/>
            <a:ext cx="6821280" cy="504504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HAD PROMISED GOD THAT IF HE ESCAPED FROM IRELAND HE WOULD BECOME A BISHOP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24920" cy="464832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42:16Z</dcterms:created>
  <dc:creator>Loredana</dc:creator>
  <dc:description/>
  <dc:language>en-US</dc:language>
  <cp:lastModifiedBy>Loredana</cp:lastModifiedBy>
  <dcterms:modified xsi:type="dcterms:W3CDTF">2007-03-12T22:22:42Z</dcterms:modified>
  <cp:revision>16</cp:revision>
  <dc:subject/>
  <dc:title>Diapositiva 1</dc:title>
</cp:coreProperties>
</file>