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B7245-5080-4D9A-8142-D23484FAD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3938F-5D25-4C74-9011-063A2C505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A4B0B-0DBF-4339-8B65-6F0D03FAA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53064-49E9-4150-9F7D-454CABBE5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3FB5A-7732-4831-8A1A-848B10F6A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7594A-454F-4E60-9313-487BE3771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A58AB-B0CF-4F90-81F7-E8A0D087E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B9BC9-D477-4B70-8945-C1EF20FA0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1D349-CF45-4674-8078-AB72215E8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F03EC-D3B1-4A28-9B5B-784B2C00C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16E58-8B54-4C6F-9671-80B1E415C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55DE8-91F8-4F97-B819-42BEC5AFD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746AE-DAED-41B7-960D-321E3755D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ACE13-DC02-4E98-BCB3-DA940298F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D51E8-A21A-4762-B73B-6565198A6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19078-118A-426F-A0DE-477ECB5A4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DB66A-FADD-4391-B56A-5EAE7D925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13192-F5D5-4188-AC78-60F4F3EC5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FB9A1-936C-470C-9426-D13DA17B7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1353C-F662-4AC4-9B9F-DF6E7DFB9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6FFD4-AA56-47F0-9793-A5E81DF67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4B090-8DB4-484F-BDA5-FB3D3165D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614E7-29A6-499A-BC05-957ECB449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024E7-FBE0-4002-BFCD-693BA6B7F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ff99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07c00"/>
                </a:gs>
                <a:gs pos="100000">
                  <a:srgbClr val="ff99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ea41e"/>
                </a:gs>
                <a:gs pos="100000">
                  <a:srgbClr val="ff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fea41e"/>
                </a:gs>
                <a:gs pos="100000">
                  <a:srgbClr val="ff99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07c00"/>
                </a:gs>
                <a:gs pos="100000">
                  <a:srgbClr val="ff99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ea41e"/>
                </a:gs>
                <a:gs pos="100000">
                  <a:srgbClr val="ff99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1B621-38ED-411D-A52C-EA2551B0A17B}" type="slidenum">
              <a:rPr b="0" lang="it-IT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8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b28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ff99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07c00"/>
                </a:gs>
                <a:gs pos="100000">
                  <a:srgbClr val="ff99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07c00"/>
                </a:gs>
                <a:gs pos="100000">
                  <a:srgbClr val="ff99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ea41e"/>
                </a:gs>
                <a:gs pos="100000">
                  <a:srgbClr val="ff99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ea41e"/>
                </a:gs>
                <a:gs pos="100000">
                  <a:srgbClr val="ff99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6600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7236D-BBE5-4085-85D9-9351609644AF}" type="slidenum">
              <a:rPr b="0" lang="it-IT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283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26920" y="40428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cc6600"/>
                </a:solidFill>
                <a:latin typeface="Arial Black"/>
              </a:rPr>
              <a:t>3° Circolo Bagheria</a:t>
            </a:r>
            <a:br>
              <a:rPr sz="2800"/>
            </a:br>
            <a:r>
              <a:rPr b="1" lang="it-IT" sz="2400" spc="-1" strike="noStrike">
                <a:solidFill>
                  <a:srgbClr val="cc6600"/>
                </a:solidFill>
                <a:latin typeface="Arial Black"/>
              </a:rPr>
              <a:t>Gli Alunni Della classe 3 D </a:t>
            </a:r>
            <a:br>
              <a:rPr sz="2400"/>
            </a:br>
            <a:r>
              <a:rPr b="1" lang="it-IT" sz="2400" spc="-1" strike="noStrike">
                <a:solidFill>
                  <a:srgbClr val="cc6600"/>
                </a:solidFill>
                <a:latin typeface="Arial Black"/>
              </a:rPr>
              <a:t>introduce</a:t>
            </a:r>
            <a:endParaRPr b="1" lang="en-US" sz="2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547280" y="2420640"/>
            <a:ext cx="6782040" cy="2808360"/>
          </a:xfrm>
          <a:prstGeom prst="rect">
            <a:avLst/>
          </a:prstGeom>
          <a:noFill/>
          <a:ln w="57240">
            <a:solidFill>
              <a:srgbClr val="cc66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5400" spc="-1" strike="noStrike">
                <a:solidFill>
                  <a:srgbClr val="99cc00"/>
                </a:solidFill>
                <a:latin typeface="Arial"/>
              </a:rPr>
              <a:t>Irish legends: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5400" spc="-1" strike="noStrike">
                <a:solidFill>
                  <a:srgbClr val="99cc00"/>
                </a:solidFill>
                <a:latin typeface="Arial"/>
              </a:rPr>
              <a:t>ST.PATRICK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449600" y="3306600"/>
            <a:ext cx="244800" cy="244800"/>
          </a:xfrm>
          <a:prstGeom prst="rect">
            <a:avLst/>
          </a:prstGeom>
          <a:ln w="0">
            <a:noFill/>
          </a:ln>
        </p:spPr>
      </p:pic>
    </p:spTree>
  </p:cSld>
  <p:transition spd="slow" advTm="13000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6600"/>
                </a:solidFill>
                <a:latin typeface="Arial Black"/>
              </a:rPr>
              <a:t>PATRICK KEPT HIS PROMISE. WHEN HE WAS A BISHOP BACK TO IRELAND</a:t>
            </a:r>
            <a:endParaRPr b="1" lang="en-US" sz="2000" spc="-1" strike="noStrike">
              <a:solidFill>
                <a:srgbClr val="cc6600"/>
              </a:solidFill>
              <a:latin typeface="Arial Black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900000" y="1844640"/>
            <a:ext cx="7039080" cy="4697280"/>
          </a:xfrm>
          <a:prstGeom prst="rect">
            <a:avLst/>
          </a:prstGeom>
          <a:ln w="76320">
            <a:solidFill>
              <a:srgbClr val="cc6600"/>
            </a:solidFill>
            <a:miter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324000" y="623736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p:transition spd="slow" advTm="11000">
    <p:random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0" dur="1" fill="hold"/>
                                        <p:tgtEl>
                                          <p:spTgt spid="1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6600"/>
                </a:solidFill>
                <a:latin typeface="Arial Black"/>
              </a:rPr>
              <a:t>HE BANISHED ALL SNAKES FROM IRELAND AND DROVE THEM INTO THE SEA. HE BANISHED THE STRANGE GODS AND CUSTOMS OF THE PEOPLE</a:t>
            </a:r>
            <a:r>
              <a:rPr b="1" lang="en-GB" sz="4000" spc="-1" strike="noStrike">
                <a:solidFill>
                  <a:srgbClr val="cc6600"/>
                </a:solidFill>
                <a:latin typeface="Arial Black"/>
              </a:rPr>
              <a:t> </a:t>
            </a:r>
            <a:endParaRPr b="1" lang="en-US" sz="4000" spc="-1" strike="noStrike">
              <a:solidFill>
                <a:srgbClr val="cc66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826920" y="1542960"/>
            <a:ext cx="7656840" cy="5315040"/>
          </a:xfrm>
          <a:prstGeom prst="rect">
            <a:avLst/>
          </a:prstGeom>
          <a:ln w="76320">
            <a:solidFill>
              <a:srgbClr val="f05000"/>
            </a:solidFill>
            <a:miter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395280" y="544500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p:transition spd="slow" advTm="9000">
    <p:random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6" dur="1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6600"/>
                </a:solidFill>
                <a:latin typeface="Arial Black"/>
              </a:rPr>
              <a:t>PATRICK PICKED UP A  SHAMROCK TO SHOW THEM HOW THREE GODS COULD BE IN ONE.</a:t>
            </a:r>
            <a:endParaRPr b="1" lang="en-US" sz="2000" spc="-1" strike="noStrike">
              <a:solidFill>
                <a:srgbClr val="cc6600"/>
              </a:solidFill>
              <a:latin typeface="Arial Black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476360" y="1844640"/>
            <a:ext cx="7056360" cy="5013360"/>
          </a:xfrm>
          <a:prstGeom prst="rect">
            <a:avLst/>
          </a:prstGeom>
          <a:ln w="76320">
            <a:solidFill>
              <a:srgbClr val="99cc00"/>
            </a:solidFill>
            <a:miter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611280" y="609300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p:transition spd="slow" advTm="11000">
    <p:random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2" dur="1" fill="hold"/>
                                        <p:tgtEl>
                                          <p:spTgt spid="1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cc6600"/>
                </a:solidFill>
                <a:latin typeface="Arial Black"/>
              </a:rPr>
              <a:t> </a:t>
            </a:r>
            <a:r>
              <a:rPr b="1" lang="en-GB" sz="2000" spc="-1" strike="noStrike">
                <a:solidFill>
                  <a:srgbClr val="cc6600"/>
                </a:solidFill>
                <a:latin typeface="Arial Black"/>
              </a:rPr>
              <a:t>THE PEOPLE OF IRELAND BECAME CHRISTIANS AND EVERY YEAR ON 17TH MARCH PEOPLE ALL OVER THE WORLD CELEBRATE SAINT  PATRICK’S  DAY</a:t>
            </a:r>
            <a:endParaRPr b="1" lang="en-US" sz="2000" spc="-1" strike="noStrike">
              <a:solidFill>
                <a:srgbClr val="cc66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556000" y="1916280"/>
            <a:ext cx="4190760" cy="4708440"/>
          </a:xfrm>
          <a:prstGeom prst="rect">
            <a:avLst/>
          </a:prstGeom>
          <a:ln w="76320">
            <a:solidFill>
              <a:srgbClr val="99cc00"/>
            </a:solidFill>
            <a:miter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4449600" y="3306600"/>
            <a:ext cx="244800" cy="244800"/>
          </a:xfrm>
          <a:prstGeom prst="rect">
            <a:avLst/>
          </a:prstGeom>
          <a:ln w="0">
            <a:noFill/>
          </a:ln>
        </p:spPr>
      </p:pic>
    </p:spTree>
  </p:cSld>
  <p:transition spd="slow" advTm="17000">
    <p:random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2" dur="15320" fill="hold"/>
                                        <p:tgtEl>
                                          <p:spTgt spid="1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cc6600"/>
                </a:solidFill>
                <a:latin typeface="Arial Black"/>
              </a:rPr>
              <a:t>credits 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Reg Keating, Irish legends, St Patrick   Ed. Tarantula Boo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Voices recording : pupils of class 3°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3° Circolo Didattico Bagheria –Ita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strips dir="l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6600"/>
                </a:solidFill>
                <a:latin typeface="Arial Black"/>
              </a:rPr>
              <a:t>PATRICK WAS A YOUNG BOY. HE LIVED IN A LAND ACROSS THE SEA. ONE DAY PATRICK HEARD  A VOICE CALLING FOR SOMEONE TO COME IN IRELAND AND SHOW THE PEOPLE A BETTER WAY OF LIFE</a:t>
            </a:r>
            <a:endParaRPr b="1" lang="en-US" sz="2000" spc="-1" strike="noStrike">
              <a:solidFill>
                <a:srgbClr val="cc6600"/>
              </a:solidFill>
              <a:latin typeface="Arial Black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476360" y="1916280"/>
            <a:ext cx="5896080" cy="424656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68360" y="638172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p:transition spd="slow" advTm="20000">
    <p:random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" dur="1" fill="hold"/>
                                        <p:tgtEl>
                                          <p:spTgt spid="1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6600"/>
                </a:solidFill>
                <a:latin typeface="Arial Black"/>
              </a:rPr>
              <a:t> </a:t>
            </a:r>
            <a:r>
              <a:rPr b="1" lang="en-GB" sz="1600" spc="-1" strike="noStrike">
                <a:solidFill>
                  <a:srgbClr val="cc6600"/>
                </a:solidFill>
                <a:latin typeface="Arial Black"/>
              </a:rPr>
              <a:t>AT THAT TIME THE PEOPLE OF IRELAND WAS ALL PAGANS. THEY COULD NOT READ AND WRITE.</a:t>
            </a:r>
            <a:endParaRPr b="1" lang="en-US" sz="1600" spc="-1" strike="noStrike">
              <a:solidFill>
                <a:srgbClr val="cc6600"/>
              </a:solidFill>
              <a:latin typeface="Arial Black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332000" y="1844640"/>
            <a:ext cx="6691320" cy="48308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539640" y="616572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random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6600"/>
                </a:solidFill>
                <a:latin typeface="Arial Black"/>
              </a:rPr>
              <a:t>WHILE PATRICK WAS LISTENING TO THE VOICE, A LONG BOAT LANDED AT THE SEASHORE. CRUEL AND SAVAGE MEN JUMPED FROM THE BOAT AND THEY CAPTURED PATRICK.</a:t>
            </a:r>
            <a:endParaRPr b="1" lang="en-US" sz="2000" spc="-1" strike="noStrike">
              <a:solidFill>
                <a:srgbClr val="cc6600"/>
              </a:solidFill>
              <a:latin typeface="Arial Black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258920" y="1916280"/>
            <a:ext cx="6485040" cy="464328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68360" y="623736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p:transition spd="slow" advTm="14000">
    <p:random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" dur="1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6600"/>
                </a:solidFill>
                <a:latin typeface="Arial Black"/>
              </a:rPr>
              <a:t>PATRICK WAS SOLD AS A SLAVE HE WAS MINDING SHEEPS AND PIGS.</a:t>
            </a:r>
            <a:endParaRPr b="1" lang="en-US" sz="2000" spc="-1" strike="noStrike">
              <a:solidFill>
                <a:srgbClr val="cc66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619280" y="2060640"/>
            <a:ext cx="6253200" cy="4424400"/>
          </a:xfrm>
          <a:prstGeom prst="rect">
            <a:avLst/>
          </a:prstGeom>
          <a:ln w="76320">
            <a:solidFill>
              <a:srgbClr val="cc6600"/>
            </a:solidFill>
            <a:miter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24000" y="609300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random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0" dur="1" fill="hold"/>
                                        <p:tgtEl>
                                          <p:spTgt spid="1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6600"/>
                </a:solidFill>
                <a:latin typeface="Arial Black"/>
              </a:rPr>
              <a:t>PATRICK WAS COLD AND HUNGRY. HE WAS AFRAID OF SNAKES THAT CRAWELED ALL OVER MOUNT SLEMISH.</a:t>
            </a:r>
            <a:endParaRPr b="1" lang="en-US" sz="2000" spc="-1" strike="noStrike">
              <a:solidFill>
                <a:srgbClr val="cc6600"/>
              </a:solidFill>
              <a:latin typeface="Arial Black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332000" y="1851120"/>
            <a:ext cx="6408720" cy="5006880"/>
          </a:xfrm>
          <a:prstGeom prst="rect">
            <a:avLst/>
          </a:prstGeom>
          <a:ln w="76320">
            <a:solidFill>
              <a:srgbClr val="008000"/>
            </a:solidFill>
            <a:miter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395280" y="616572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p:transition spd="slow" advTm="12000">
    <p:random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6" dur="1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6600"/>
                </a:solidFill>
                <a:latin typeface="Arial Black"/>
              </a:rPr>
              <a:t>ONE NIGHT PATRICK WENT TO THE SEASHORE AND SAW A BOAT.HE CLIMBED ON BOARD THE BOAT AND HIDE UNDER A SACK.</a:t>
            </a:r>
            <a:endParaRPr b="1" lang="en-US" sz="2000" spc="-1" strike="noStrike">
              <a:solidFill>
                <a:srgbClr val="cc66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258920" y="1773360"/>
            <a:ext cx="7116840" cy="4838400"/>
          </a:xfrm>
          <a:prstGeom prst="rect">
            <a:avLst/>
          </a:prstGeom>
          <a:ln w="76320">
            <a:solidFill>
              <a:srgbClr val="6600ff"/>
            </a:solidFill>
            <a:miter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68360" y="616572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p:transition spd="slow" advTm="14000">
    <p:random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2" dur="1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6600"/>
                </a:solidFill>
                <a:latin typeface="Arial Black"/>
              </a:rPr>
              <a:t>THE BOAT LANDED NEAR PATRICK’S HOME . HIS MOTHER AND HIS FATHER DILIGHTED TO SEE PATRICK SAFELY HOME</a:t>
            </a:r>
            <a:endParaRPr b="1" lang="en-US" sz="2000" spc="-1" strike="noStrike">
              <a:solidFill>
                <a:srgbClr val="cc6600"/>
              </a:solidFill>
              <a:latin typeface="Arial Black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258920" y="1812960"/>
            <a:ext cx="6821280" cy="5045040"/>
          </a:xfrm>
          <a:prstGeom prst="rect">
            <a:avLst/>
          </a:prstGeom>
          <a:ln w="76320">
            <a:solidFill>
              <a:srgbClr val="6600ff"/>
            </a:solidFill>
            <a:miter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395280" y="630864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random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8" dur="1" fill="hold"/>
                                        <p:tgtEl>
                                          <p:spTgt spid="1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6600"/>
                </a:solidFill>
                <a:latin typeface="Arial Black"/>
              </a:rPr>
              <a:t>PATRICK HAD PROMISED GOD THAT IF HE ESCAPED FROM IRELAND HE WOULD BECOME A BISHOP.</a:t>
            </a:r>
            <a:endParaRPr b="1" lang="en-US" sz="2000" spc="-1" strike="noStrike">
              <a:solidFill>
                <a:srgbClr val="cc66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547640" y="1844640"/>
            <a:ext cx="6424920" cy="4648320"/>
          </a:xfrm>
          <a:prstGeom prst="rect">
            <a:avLst/>
          </a:prstGeom>
          <a:ln w="76320">
            <a:solidFill>
              <a:srgbClr val="f05000"/>
            </a:solidFill>
            <a:miter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539640" y="623736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p:transition spd="slow" advTm="11000">
    <p:random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4" dur="1" fill="hold"/>
                                        <p:tgtEl>
                                          <p:spTgt spid="1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9T20:42:16Z</dcterms:created>
  <dc:creator>Loredana</dc:creator>
  <dc:description/>
  <dc:language>en-US</dc:language>
  <cp:lastModifiedBy>Loredana</cp:lastModifiedBy>
  <dcterms:modified xsi:type="dcterms:W3CDTF">2007-03-12T22:22:42Z</dcterms:modified>
  <cp:revision>16</cp:revision>
  <dc:subject/>
  <dc:title>Diapositiva 1</dc:title>
</cp:coreProperties>
</file>