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33E-B2E5-43E0-BE40-CB20B4A4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C93-959C-4BCE-9065-352EF552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1247-9ADD-40C6-9E0B-128946FF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B39-D2DC-4F63-BB8C-2C2878B1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C774-AC56-42A7-B64B-574EBC41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6302-4558-4506-A0D9-7A1420C6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85A8-725E-435D-AAFF-2973EDC3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89D8-4374-4BD2-8A26-42775368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1BE6-DB3E-4508-AFD4-3E6150B2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15FA-F213-4713-8480-56ED737D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F25C-CC94-46D4-87AC-25AC27D4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1D1-2053-4B75-BB5D-7CFA092A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3DFF-570A-4AC0-B8DA-66E77370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8125-604A-4790-813F-BD07703A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3155-220A-4747-99EF-7DADB1E3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AC54-058B-484C-A396-AB366A60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7394-72DE-44C3-9BFC-F610B2C1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11F-A672-4AC0-8A2F-1ADBCF63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E76A-51EB-4A52-AD98-D25DC5BD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D96-9B01-4301-80D7-A5292B1A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4AA-14D2-480A-8EF2-42345760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CC0-D375-4CFF-9EAE-43221F6C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E41A-6DA7-4091-A99C-B8B6CD3B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2B3-D4ED-4D3E-84E3-820C452C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E5BB-9B91-4B4D-AE54-CDFBCC45008B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9BA5-875D-4CDD-BF54-51272D90C25A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6600"/>
                </a:solidFill>
                <a:latin typeface="Arial Black"/>
              </a:rPr>
              <a:t>3° Circolo Bagheria</a:t>
            </a:r>
            <a:br>
              <a:rPr sz="2800"/>
            </a:br>
            <a:r>
              <a:rPr b="1" lang="it-IT" sz="2400" spc="-1" strike="noStrike">
                <a:solidFill>
                  <a:srgbClr val="cc6600"/>
                </a:solidFill>
                <a:latin typeface="Arial Black"/>
              </a:rPr>
              <a:t>Gli Alunni Della classe 3 D </a:t>
            </a:r>
            <a:br>
              <a:rPr sz="2400"/>
            </a:br>
            <a:r>
              <a:rPr b="1" lang="it-IT" sz="2400" spc="-1" strike="noStrike">
                <a:solidFill>
                  <a:srgbClr val="cc6600"/>
                </a:solidFill>
                <a:latin typeface="Arial Black"/>
              </a:rPr>
              <a:t>introduce</a:t>
            </a:r>
            <a:endParaRPr b="1" lang="en-US" sz="2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2420640"/>
            <a:ext cx="6782040" cy="2808360"/>
          </a:xfrm>
          <a:prstGeom prst="rect">
            <a:avLst/>
          </a:prstGeom>
          <a:noFill/>
          <a:ln w="57240">
            <a:solidFill>
              <a:srgbClr val="cc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99cc00"/>
                </a:solidFill>
                <a:latin typeface="Arial"/>
              </a:rPr>
              <a:t>Irish legend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99cc00"/>
                </a:solidFill>
                <a:latin typeface="Arial"/>
              </a:rPr>
              <a:t>ST.PATRIC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KEPT HIS PROMISE. WHEN HE WAS A BISHOP BACK TO IRELAND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039080" cy="469728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HE BANISHED ALL SNAKES FROM IRELAND AND DROVE THEM INTO THE SEA. HE BANISHED THE STRANGE GODS AND CUSTOMS OF THE PEOPLE</a:t>
            </a:r>
            <a:r>
              <a:rPr b="1" lang="en-GB" sz="4000" spc="-1" strike="noStrike">
                <a:solidFill>
                  <a:srgbClr val="cc66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1542960"/>
            <a:ext cx="7656840" cy="5315040"/>
          </a:xfrm>
          <a:prstGeom prst="rect">
            <a:avLst/>
          </a:prstGeom>
          <a:ln w="76320">
            <a:solidFill>
              <a:srgbClr val="f05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544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PICKED UP A  SHAMROCK TO SHOW THEM HOW THREE GODS COULD BE IN ONE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056360" cy="501336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11280" y="609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6600"/>
                </a:solidFill>
                <a:latin typeface="Arial Black"/>
              </a:rPr>
              <a:t> </a:t>
            </a: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THE PEOPLE OF IRELAND BECAME CHRISTIANS AND EVERY YEAR ON 17TH MARCH PEOPLE ALL OVER THE WORLD CELEBRATE SAINT  PATRICK’S  DAY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4190760" cy="470844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532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6600"/>
                </a:solidFill>
                <a:latin typeface="Arial Black"/>
              </a:rPr>
              <a:t>credits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g Keating, Irish legends, St Patrick   Ed. Tarantula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oices recording : pupils of class 3°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° Circolo Didattico Bagheria –It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WAS A YOUNG BOY. HE LIVED IN A LAND ACROSS THE SEA. ONE DAY PATRICK HEARD  A VOICE CALLING FOR SOMEONE TO COME IN IRELAND AND SHOW THE PEOPLE A BETTER WAY OF LIFE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896080" cy="4246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36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6600"/>
                </a:solidFill>
                <a:latin typeface="Arial Black"/>
              </a:rPr>
              <a:t> </a:t>
            </a:r>
            <a:r>
              <a:rPr b="1" lang="en-GB" sz="1600" spc="-1" strike="noStrike">
                <a:solidFill>
                  <a:srgbClr val="cc6600"/>
                </a:solidFill>
                <a:latin typeface="Arial Black"/>
              </a:rPr>
              <a:t>AT THAT TIME THE PEOPLE OF IRELAND WAS ALL PAGANS. THEY COULD NOT READ AND WRITE.</a:t>
            </a:r>
            <a:endParaRPr b="1" lang="en-US" sz="16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691320" cy="4830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964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WHILE PATRICK WAS LISTENING TO THE VOICE, A LONG BOAT LANDED AT THE SEASHORE. CRUEL AND SAVAGE MEN JUMPED FROM THE BOAT AND THEY CAPTURED PATRICK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485040" cy="4643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WAS SOLD AS A SLAVE HE WAS MINDING SHEEPS AND PIGS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253200" cy="442440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609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WAS COLD AND HUNGRY. HE WAS AFRAID OF SNAKES THAT CRAWELED ALL OVER MOUNT SLEMISH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32000" y="1851120"/>
            <a:ext cx="6408720" cy="5006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ONE NIGHT PATRICK WENT TO THE SEASHORE AND SAW A BOAT.HE CLIMBED ON BOARD THE BOAT AND HIDE UNDER A SACK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116840" cy="4838400"/>
          </a:xfrm>
          <a:prstGeom prst="rect">
            <a:avLst/>
          </a:prstGeom>
          <a:ln w="76320">
            <a:solidFill>
              <a:srgbClr val="6600ff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THE BOAT LANDED NEAR PATRICK’S HOME . HIS MOTHER AND HIS FATHER DILIGHTED TO SEE PATRICK SAFELY HOME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58920" y="1812960"/>
            <a:ext cx="6821280" cy="5045040"/>
          </a:xfrm>
          <a:prstGeom prst="rect">
            <a:avLst/>
          </a:prstGeom>
          <a:ln w="76320">
            <a:solidFill>
              <a:srgbClr val="6600ff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63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HAD PROMISED GOD THAT IF HE ESCAPED FROM IRELAND HE WOULD BECOME A BISHOP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424920" cy="4648320"/>
          </a:xfrm>
          <a:prstGeom prst="rect">
            <a:avLst/>
          </a:prstGeom>
          <a:ln w="76320">
            <a:solidFill>
              <a:srgbClr val="f05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964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20:42:16Z</dcterms:created>
  <dc:creator>Loredana</dc:creator>
  <dc:description/>
  <dc:language>en-US</dc:language>
  <cp:lastModifiedBy>Loredana</cp:lastModifiedBy>
  <dcterms:modified xsi:type="dcterms:W3CDTF">2007-03-12T22:22:42Z</dcterms:modified>
  <cp:revision>16</cp:revision>
  <dc:subject/>
  <dc:title>Diapositiva 1</dc:title>
</cp:coreProperties>
</file>