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993-AB13-4F19-AA63-EEF11A94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5F8-CAA3-4738-A7F2-8E61F229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8D9-7E62-4582-BFA5-C6BA47DA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EB7-7FC3-4A32-B0AF-60C11C14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279-C4DF-43A7-97EF-98A690A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3E8-4E3E-45C6-B0BF-05D29DB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CBD-AF50-4FAF-82E8-24AAAC9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630-FA34-45CC-92DC-8889309A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B77-1426-4A42-BA5C-EF1323C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841-D2C6-4193-9C19-15A5879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04F-D11E-41E6-AEDF-C3584C2E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02E-0C0E-404E-9645-B7126F7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F18B0B-07B3-47DA-98B9-CF53179A59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roupa do palha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° Circolo Bagheria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gua portoghese 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1 school project www= what a wonderful wind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stentato di lin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1.wav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64328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6" name="AutoShape 2"/>
          <p:cNvSpPr/>
          <p:nvPr/>
        </p:nvSpPr>
        <p:spPr>
          <a:xfrm>
            <a:off x="5940360" y="260280"/>
            <a:ext cx="2952720" cy="2303640"/>
          </a:xfrm>
          <a:prstGeom prst="wedgeRoundRectCallout">
            <a:avLst>
              <a:gd name="adj1" fmla="val -121611"/>
              <a:gd name="adj2" fmla="val 23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CHAMO-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MER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SOU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ALHAÇ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2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32480" cy="64389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9" name="AutoShape 2"/>
          <p:cNvSpPr/>
          <p:nvPr/>
        </p:nvSpPr>
        <p:spPr>
          <a:xfrm>
            <a:off x="586728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APĖ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VER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3993840" y="906480"/>
            <a:ext cx="2019240" cy="579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3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29160" cy="6294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3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D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UVAS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H="1" flipV="1">
            <a:off x="4714560" y="1411200"/>
            <a:ext cx="129852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5280" y="347760"/>
            <a:ext cx="4684680" cy="6510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7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M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VERMAL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H="1" flipV="1">
            <a:off x="3922560" y="2706480"/>
            <a:ext cx="2019600" cy="57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5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2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476600" cy="6222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  <p:sp>
        <p:nvSpPr>
          <p:cNvPr id="61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LÇO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3490560" y="3789360"/>
            <a:ext cx="25225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6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79920" cy="6365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65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S SAP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COR -DE- RO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C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DE L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4354560" y="4365720"/>
            <a:ext cx="16588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7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68" name="8.wav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3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4364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70" name="AutoShape 2"/>
          <p:cNvSpPr/>
          <p:nvPr/>
        </p:nvSpPr>
        <p:spPr>
          <a:xfrm>
            <a:off x="565164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3399ff"/>
                </a:solidFill>
                <a:latin typeface="Comic Sans MS"/>
              </a:rPr>
              <a:t>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8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62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dana</dc:creator>
  <dc:description/>
  <dc:language>en-US</dc:language>
  <cp:lastModifiedBy>loredana</cp:lastModifiedBy>
  <dcterms:modified xsi:type="dcterms:W3CDTF">2007-08-30T13:42:58Z</dcterms:modified>
  <cp:revision>12</cp:revision>
  <dc:subject/>
  <dc:title>A roupa do pahlasco</dc:title>
</cp:coreProperties>
</file>