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1F9-B59D-4C6D-88B2-2DA7F23C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FCD-027C-4378-A58E-C67D7B6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A0D-CB56-46DA-AFC7-44F970F1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3D2-127B-4B74-B708-9B7C8D42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663-2322-437E-8448-C5C978D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E85-8196-4CFB-A36E-F45DB10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EA2-C061-491F-8C89-6AB04A67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CAB-B1A5-4181-94BE-7850875D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D8C-5C0D-46C7-ABED-A79EBEE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1C5-82EB-4450-BCB2-3184874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2DE-9AB5-4CB9-B4CD-2A898C3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052-DFB4-438C-8312-B01B384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AC0EC4-8AAC-4F81-B078-0C30A47982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roupa do palha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° Circolo Bagheria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gua portoghese 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1 school project www= what a wonderful wind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stentato di lin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1.wav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64328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6" name="AutoShape 2"/>
          <p:cNvSpPr/>
          <p:nvPr/>
        </p:nvSpPr>
        <p:spPr>
          <a:xfrm>
            <a:off x="5940360" y="260280"/>
            <a:ext cx="2952720" cy="2303640"/>
          </a:xfrm>
          <a:prstGeom prst="wedgeRoundRectCallout">
            <a:avLst>
              <a:gd name="adj1" fmla="val -121611"/>
              <a:gd name="adj2" fmla="val 23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CHAMO-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MER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SOU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ALHAÇ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2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32480" cy="64389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9" name="AutoShape 2"/>
          <p:cNvSpPr/>
          <p:nvPr/>
        </p:nvSpPr>
        <p:spPr>
          <a:xfrm>
            <a:off x="586728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APĖ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VER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3993840" y="906480"/>
            <a:ext cx="2019240" cy="579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3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9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529160" cy="6294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3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D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UVAS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 flipH="1" flipV="1">
            <a:off x="4714560" y="1411200"/>
            <a:ext cx="1298520" cy="65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4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95280" y="347760"/>
            <a:ext cx="4684680" cy="6510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7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M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VERMAL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H="1" flipV="1">
            <a:off x="3922560" y="2706480"/>
            <a:ext cx="2019600" cy="57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5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22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4476600" cy="6222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  <p:sp>
        <p:nvSpPr>
          <p:cNvPr id="61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LÇO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3490560" y="3789360"/>
            <a:ext cx="25225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6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1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79920" cy="63658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65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S SAP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mic Sans MS"/>
              </a:rPr>
              <a:t>COR -DE- ROS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C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DE LAR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4354560" y="4365720"/>
            <a:ext cx="16588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7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68" name="8.wav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3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4364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70" name="AutoShape 2"/>
          <p:cNvSpPr/>
          <p:nvPr/>
        </p:nvSpPr>
        <p:spPr>
          <a:xfrm>
            <a:off x="565164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cc99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3399ff"/>
                </a:solidFill>
                <a:latin typeface="Comic Sans MS"/>
              </a:rPr>
              <a:t>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8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62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dana</dc:creator>
  <dc:description/>
  <dc:language>en-US</dc:language>
  <cp:lastModifiedBy>loredana</cp:lastModifiedBy>
  <dcterms:modified xsi:type="dcterms:W3CDTF">2007-08-30T13:42:58Z</dcterms:modified>
  <cp:revision>12</cp:revision>
  <dc:subject/>
  <dc:title>A roupa do pahlasco</dc:title>
</cp:coreProperties>
</file>